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B71-E2E7-4618-8DF5-E6A8829B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8FB-ECAE-4B09-A166-BD70652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8D0-D266-4E89-817E-8349E62F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01E-29AE-4E58-9AC5-EC968B0E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A6D-8CEF-4AA1-A950-DA69D773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357-EC4A-4F98-9117-F5FC98C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E41-4179-4DDB-9EE8-5488B356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6A1-0FA2-42BE-B558-81F2753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441-451F-46BE-80B6-C368E20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3A9-92D2-4751-A156-6B2BC6E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7E2-04B1-4EF9-A1C1-1F0F450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875-5458-4BEE-A8B7-89E1A31C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892F-F3DB-4DC9-BE15-D0D37AD70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356000" y="2637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 с поздравлением нужно разместить зде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06:43Z</dcterms:created>
  <dc:creator>vasiliev</dc:creator>
  <dc:description/>
  <dc:language>en-US</dc:language>
  <cp:lastModifiedBy>Слава</cp:lastModifiedBy>
  <dcterms:modified xsi:type="dcterms:W3CDTF">2019-08-25T19:54:03Z</dcterms:modified>
  <cp:revision>3</cp:revision>
  <dc:subject/>
  <dc:title>Презентация PowerPoint</dc:title>
</cp:coreProperties>
</file>